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75A-1826-4B73-8B93-FD923F2F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2CD-4B9F-46C4-8F6E-FD16F0B0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8E1-9C03-4715-AD9A-728F2611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E56-477C-4611-B3B3-295F0452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EDD6-2168-44FA-A745-7D179B57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F444-582D-43F3-80A2-535E1817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1889-582B-4C97-81E2-A68D0E4F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E1ED-F6DD-4C38-AF9C-1774226B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511B-62B4-4A91-B3FC-06058456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4A45-4F73-493E-BF8D-4EE180C3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4BEE-4817-4FD9-87F0-FC62D523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00F-3B72-4294-86A7-34642C2E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F85A-932D-42BA-A60D-ADC1885B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B775-7615-4226-83B1-2DDE9BFF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B2DB-0F9B-46B6-8A81-D2511D60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FC0A-29CB-4C3E-A136-0F5A23F9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0F8B-FBA5-407E-BE44-8C9297A1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D33-2708-4D69-883E-CEEC760A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00E0-0C4A-41E8-8F4C-B31822F6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9EE-4891-4350-8447-C8AEBCA0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49B-77F1-4A96-B71F-DE803599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6EE-5DBB-4265-9071-15243383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2209-F566-4A50-B17B-89961BA7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39E-ED9B-49FE-BB4F-1AFE5437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8671-A92B-457F-BB4C-6B6D851C8F6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F230-B679-4699-BE03-3EFFF578D5F8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an Morga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785000" cy="16941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Buddhist center of prayer and stud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6" descr="http://t2.gstatic.com/images?q=tbn:ANd9GcTekW6doWqhzHgv0Yh1d_2wy0PeOAL3HCvDnCxyEWlA0lZqbn-d"/>
          <p:cNvPicPr/>
          <p:nvPr/>
        </p:nvPicPr>
        <p:blipFill>
          <a:blip r:embed="rId2"/>
          <a:stretch/>
        </p:blipFill>
        <p:spPr>
          <a:xfrm>
            <a:off x="2362320" y="1254240"/>
            <a:ext cx="27334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785000" cy="1694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large landmass that is part of a continent but distinct from 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785000" cy="1694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seasonal wind that blows for months  at a time, affecting the clim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6" descr="http://t3.gstatic.com/images?q=tbn:ANd9GcSqqZj1xI2OFHmMRaCZ76eDbwbV2DPkoIhA9qt2wIeaCIEP3JYF"/>
          <p:cNvPicPr/>
          <p:nvPr/>
        </p:nvPicPr>
        <p:blipFill>
          <a:blip r:embed="rId2"/>
          <a:stretch/>
        </p:blipFill>
        <p:spPr>
          <a:xfrm>
            <a:off x="2819520" y="1893960"/>
            <a:ext cx="275256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785000" cy="1694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plant fiber used for making rope, burlap, bags, etc…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6" descr="http://t1.gstatic.com/images?q=tbn:ANd9GcRROnMB_ATWjplEUW-M_VsvVCzRyRtONuLMS1ByaWIKeC6iNOlc"/>
          <p:cNvPicPr/>
          <p:nvPr/>
        </p:nvPicPr>
        <p:blipFill>
          <a:blip r:embed="rId2"/>
          <a:stretch/>
        </p:blipFill>
        <p:spPr>
          <a:xfrm>
            <a:off x="2209680" y="1828800"/>
            <a:ext cx="4038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881840" cy="1694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home or village based industry where family  members make their own goo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6" descr="http://t3.gstatic.com/images?q=tbn:ANd9GcQJfPc1m-WPsUTg0I3Vps6viiPLaOp_7dqfp4PIZ5Erc1qD5VQJ"/>
          <p:cNvPicPr/>
          <p:nvPr/>
        </p:nvPicPr>
        <p:blipFill>
          <a:blip r:embed="rId2"/>
          <a:stretch/>
        </p:blipFill>
        <p:spPr>
          <a:xfrm>
            <a:off x="2666880" y="2035080"/>
            <a:ext cx="342900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785000" cy="1694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r social class that is based on your ancesto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6" descr="http://t1.gstatic.com/images?q=tbn:ANd9GcSKEuyhU56STeSoPU_6-oc_xvxxUGIlNSJNdnHEWOhMsHLZlmodNQ"/>
          <p:cNvPicPr/>
          <p:nvPr/>
        </p:nvPicPr>
        <p:blipFill>
          <a:blip r:embed="rId2"/>
          <a:stretch/>
        </p:blipFill>
        <p:spPr>
          <a:xfrm>
            <a:off x="2286000" y="1863720"/>
            <a:ext cx="45100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785000" cy="1694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belief in the rebirth  of a person’s soul in a new body after death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6" descr="http://www.crystalitas.com/FR/_images/reincarnation_crystalitas_180x120.jpg"/>
          <p:cNvPicPr/>
          <p:nvPr/>
        </p:nvPicPr>
        <p:blipFill>
          <a:blip r:embed="rId2"/>
          <a:stretch/>
        </p:blipFill>
        <p:spPr>
          <a:xfrm>
            <a:off x="2286000" y="1828800"/>
            <a:ext cx="42670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785000" cy="1694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intense storm system with heavy rain and high win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6" descr="http://t3.gstatic.com/images?q=tbn:ANd9GcRrOT1PJHptlGlZrunPP3YGduaFjRkCAkBJqYSJuS0OFiBi9rFm"/>
          <p:cNvPicPr/>
          <p:nvPr/>
        </p:nvPicPr>
        <p:blipFill>
          <a:blip r:embed="rId2"/>
          <a:stretch/>
        </p:blipFill>
        <p:spPr>
          <a:xfrm>
            <a:off x="1839960" y="1752480"/>
            <a:ext cx="4941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603360" y="5383080"/>
            <a:ext cx="7785000" cy="169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werful chemicals that kill crop-destroying insec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52560" y="-635040"/>
            <a:ext cx="761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52560" y="-635040"/>
            <a:ext cx="761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52560" y="-635040"/>
            <a:ext cx="761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52560" y="-635040"/>
            <a:ext cx="761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>
            <a:off x="52560" y="-635040"/>
            <a:ext cx="761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52560" y="-1114560"/>
            <a:ext cx="1295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8" descr="http://t2.gstatic.com/images?q=tbn:ANd9GcTgOSRR6Knu69PVtmV8bEr6RDeFKRbcJISnhfnmdIRi6-qSDB6V"/>
          <p:cNvPicPr/>
          <p:nvPr/>
        </p:nvPicPr>
        <p:blipFill>
          <a:blip r:embed="rId2"/>
          <a:stretch/>
        </p:blipFill>
        <p:spPr>
          <a:xfrm>
            <a:off x="3352680" y="2011320"/>
            <a:ext cx="19814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9T15:53:07Z</dcterms:modified>
  <cp:revision>7</cp:revision>
  <dc:subject/>
  <dc:title>Chapter 5 – India Vocabulary</dc:title>
</cp:coreProperties>
</file>